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D9F0-987B-44B6-968B-D4D3A2E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BB6F-7637-49D4-BA6A-1181195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0502-16DE-46AF-AC70-C615AC47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0141-55B3-4B33-BCB8-65A856BD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6003-86F5-4C3C-8C97-3F13006F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EF9-F2A2-4AE7-B7C0-AB89E15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3451-4A56-40DB-A84E-245BACE9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43E4-7820-4A7F-A1C2-A9DFD4D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A0A-839D-4BEB-B721-50A4292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333E-E587-4B93-9377-181736D1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3637-5119-4795-86E0-9E63FFB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58CB-E8D7-40E6-9DB0-F7AF677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7203-756D-4AFB-9F72-26D130F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687-D472-4675-BFD2-CA73A15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F4F2-1C1A-40DF-8323-BD0DC98D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3CB-B257-4AB5-AA9D-538C1279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C495-0EA3-4B2A-BC2F-D077588C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E885-8DC4-40E0-9D69-D622D57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C84E-F093-4A22-B014-8B8D1587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EC14-3BE0-4F68-BD7B-3AEEDB9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F3F8-3716-444F-9065-1F02721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C02E-7E19-4B82-AED7-E276F84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47EC-0F76-4A6C-83C6-347C42E0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A716-F55A-40F6-8026-5EB4CC0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64B-DAF8-4CA5-AA43-54547AC1651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856-6429-40AD-968F-E8FACDB899C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PORTED SPEECH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1055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2º BACHILLERATO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Reported ques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eguimos manteniendo los cambios que mencionabamos al principio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iempo verba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Expresiones temporales y de luga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Pronombres personales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En las “REPORTED QUESTIONS” ya no utilizamos partícula interrogativa. La frase adquiere la forma de una afirmativa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ujeto + verbo + complement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Tom asked: “Are you coming to the party tonight, jane?”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Tom asked Ann if  she was coming to the party that night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6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1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35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785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31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81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4349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61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Ahora tenemos que prestar atención al tipo de pregunta que e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YES/NO QUESTI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F / WHETHER + SUJETO + VERBO + COMPLEMENT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: "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you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me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ther (if)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ed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QUESTION WITH QUESTION WORDS:</a:t>
            </a:r>
            <a:br>
              <a:rPr sz="3200"/>
            </a:b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RTÍCULA INTERROGATIVA + SUJETO + VERBO + COMPLEMENT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: "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n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do you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Peter asked me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when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played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footbal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12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76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2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48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52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00"/>
                </a:solidFill>
                <a:latin typeface="Arial"/>
              </a:rPr>
              <a:t>Reported command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Hay que seguir manteniendo los cambios de expresiones de lugar y tiempo y pronombres personal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l tiempo verbal cambia de IMPERATIVO (en D.S.) a INFINITIVO (en R.S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La estructura normalmente va a ser la siguien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l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to (not to) + infini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3809880"/>
          <a:ext cx="8305560" cy="2286000"/>
        </p:xfrm>
        <a:graphic>
          <a:graphicData uri="http://schemas.openxmlformats.org/drawingml/2006/table">
            <a:tbl>
              <a:tblPr/>
              <a:tblGrid>
                <a:gridCol w="4117680"/>
                <a:gridCol w="418788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ffirmative comman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egative comman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.S: Father: "Do your homework!“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.S: Father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ld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e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 do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y homework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.S: Teacher. "Don't talk to your mate!"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.S: The teacher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ld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me </a:t>
                      </a: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t to talk</a:t>
                      </a: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to my mate.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825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475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00"/>
                </a:solidFill>
                <a:latin typeface="Arial"/>
              </a:rPr>
              <a:t>ORDERS, REQUESTS, SUGGESTION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uando queremos cambiar a estilo indirecto un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orden o petición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, usamos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ELL + somebody + infinitive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EXAMPLE: </a:t>
            </a: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octor said to me, "Stop smoking!". </a:t>
            </a:r>
            <a:br>
              <a:rPr sz="1800"/>
            </a:b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octor </a:t>
            </a: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old me to stop smoking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También podemos usar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ORDER (ordena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Get out of the car!" said the policeman.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policeman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ordered him to get out of the car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ASK (Pedi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Could you please be quiet," she said.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asked me to be quiet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WARN (advertir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man with the gun said to us, "Don't move!" </a:t>
            </a:r>
            <a:br>
              <a:rPr sz="2000"/>
            </a:b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The man with the gun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warned us not to move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Otros verbos que utilizamos en estos casos son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INVITE (Invitar), BEG (Suplicar), FORBID (Prohib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25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975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850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7125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475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8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6750"/>
                            </p:stCondLst>
                            <p:childTnLst>
                              <p:par>
                                <p:cTn id="5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70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Petición de objetos: 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Utilizamos la formula</a:t>
            </a:r>
            <a:br>
              <a:rPr sz="2800"/>
            </a:br>
            <a:r>
              <a:rPr b="1" i="1" lang="es-ES" sz="2800" spc="-1" strike="noStrike">
                <a:solidFill>
                  <a:srgbClr val="003300"/>
                </a:solidFill>
                <a:latin typeface="Arial"/>
              </a:rPr>
              <a:t>ask + for + object</a:t>
            </a: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a. "Can I have an apple?", she asked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i="1" lang="en-GB" sz="2400" spc="-1" strike="noStrike">
                <a:solidFill>
                  <a:srgbClr val="003300"/>
                </a:solidFill>
                <a:latin typeface="Arial"/>
              </a:rPr>
              <a:t>asked for an apple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b. "Can I have the newspaper, please?" </a:t>
            </a:r>
            <a:br>
              <a:rPr sz="2400"/>
            </a:b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asked for the newspaper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125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65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ugerencias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: normalmente utilizamos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that-clause.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'That'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y 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'should'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son opcionales en estos caso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said: "Why don't you get a mechanic to look at the car?"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uggeste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that I should get a mechanic to look at the car.</a:t>
            </a:r>
            <a:r>
              <a:rPr b="0" i="1" lang="en-GB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She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suggeste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I get a mechanic to look at the car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Otros verbos que podemos utilizar son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Insis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"It would be a good idea to see the dentist", said my mother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My mother </a:t>
            </a:r>
            <a:r>
              <a:rPr b="1" lang="en-GB" sz="2000" spc="-1" strike="noStrike">
                <a:solidFill>
                  <a:srgbClr val="003300"/>
                </a:solidFill>
                <a:latin typeface="Arial"/>
              </a:rPr>
              <a:t>insisted that I see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the dentis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00"/>
                </a:solidFill>
                <a:latin typeface="Arial"/>
              </a:rPr>
              <a:t>Recommend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entist said, "I think you should use a different toothbrush"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The dentist </a:t>
            </a: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recommended that I should use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a different toothbrush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Suggest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puede ir también seguido de gerundio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 suggested 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postponing the visit to the dentist.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175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675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7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550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725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975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850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100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525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2175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3175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00"/>
                </a:solidFill>
                <a:latin typeface="Arial"/>
              </a:rPr>
              <a:t>HOPES, INTENTIONS, PROMISES</a:t>
            </a:r>
            <a:endParaRPr b="0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uando cambiamos a estilo indirecto un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intención, esperanza, o promesa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usamos un “reporting verb” adecuado a este significado, seguido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that-clause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o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to-infinitive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I'll pay you the money tomorrow." 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promised to pay me the money the next day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promised that he would pay me the money the next day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Otros verbos que utilizan esta estructura son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Hope (Tener esperanza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We should arrive in London before nightfall.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They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hoped to arrive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in London before nightfall.</a:t>
            </a:r>
            <a:br>
              <a:rPr sz="1800"/>
            </a:b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They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hoped they would arrive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 in London before nightfall.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 (Amenaz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Give me the keys to the safe or I'll shoot you!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ed to shoot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me if I didn't give him the keys to the safe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threatened that he would shoot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me if I didn't give him the keys to the safe.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 (Jur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"I swear it!  I'll be back by lunchtime."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ed to be back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by lunchtime.</a:t>
            </a:r>
            <a:br>
              <a:rPr sz="1800"/>
            </a:b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sweared that he would be back</a:t>
            </a:r>
            <a:r>
              <a:rPr b="0" i="1" lang="en-GB" sz="1800" spc="-1" strike="noStrike">
                <a:solidFill>
                  <a:srgbClr val="003300"/>
                </a:solidFill>
                <a:latin typeface="Arial"/>
              </a:rPr>
              <a:t> by lunchtime.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260"/>
                            </p:stCondLst>
                            <p:childTnLst>
                              <p:par>
                                <p:cTn id="6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6780"/>
                            </p:stCondLst>
                            <p:childTnLst>
                              <p:par>
                                <p:cTn id="6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842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926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454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30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16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218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PORTING VERB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Son verbos que vamos a utilizar en estilo indirecto a parte de SAY y TELL. Algunos ya los hemos visto anteriorment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stos verbos dan información extra de lo que estamos hablando y la mayoría de las veces nos sirven para hacer el cambio a estilo indirecto de manera más libr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He </a:t>
            </a:r>
            <a:r>
              <a:rPr b="1" i="1" lang="en-GB" sz="2400" spc="-1" strike="noStrike">
                <a:solidFill>
                  <a:srgbClr val="003300"/>
                </a:solidFill>
                <a:latin typeface="Arial"/>
              </a:rPr>
              <a:t>denied</a:t>
            </a:r>
            <a:r>
              <a:rPr b="0" i="1" lang="en-GB" sz="2400" spc="-1" strike="noStrike">
                <a:solidFill>
                  <a:srgbClr val="003300"/>
                </a:solidFill>
                <a:latin typeface="Arial"/>
              </a:rPr>
              <a:t> doing i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Vamos a dividir los “reporting verbs” según el tipo de oración que va a ir tras ello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25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8250"/>
                            </p:stCondLst>
                            <p:childTnLst>
                              <p:par>
                                <p:cTn id="7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Tipos de REPORTING VERBS (Algunos pueden estar en más de un grupo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una condicional: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F / WHETHER + fras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SK   (pregun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EMEMBER   (recor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AY    (dec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 + frase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NSWER   (respond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BOAST   (alardear / presum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COMPLAIN   (protes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DENY   (neg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REPLY   (respond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AY   (dec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UGGEST   (suger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TELL   (con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WARN   (adverti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240"/>
                            </p:stCondLst>
                            <p:childTnLst>
                              <p:par>
                                <p:cTn id="7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200"/>
                            </p:stCondLst>
                            <p:childTnLst>
                              <p:par>
                                <p:cTn id="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80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56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12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784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840"/>
                            </p:stCondLst>
                            <p:childTnLst>
                              <p:par>
                                <p:cTn id="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640"/>
                            </p:stCondLst>
                            <p:childTnLst>
                              <p:par>
                                <p:cTn id="7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120"/>
                            </p:stCondLst>
                            <p:childTnLst>
                              <p:par>
                                <p:cTn id="7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800"/>
                            </p:stCondLst>
                            <p:childTnLst>
                              <p:par>
                                <p:cTn id="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124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1920"/>
                            </p:stCondLst>
                            <p:childTnLst>
                              <p:par>
                                <p:cTn id="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244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 seguido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 + frase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o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nfinitivo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LAIM   (reclam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PROMISE   (promete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THREATEN   (amenaz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THAT+ frase conteniendo shoul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DVISE   (aconsej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BEG   (suplic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DEMAND   (deman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ECOMMEND   (recomend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UGGES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Verbos seguidos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complemento + infinitiv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DVIS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AS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BEG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INVITE   (invi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ORDER   (orden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SHOUT   (gritar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WAR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48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120"/>
                            </p:stCondLst>
                            <p:childTnLst>
                              <p:par>
                                <p:cTn id="8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84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600"/>
                            </p:stCondLst>
                            <p:childTnLst>
                              <p:par>
                                <p:cTn id="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36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6080"/>
                            </p:stCondLst>
                            <p:childTnLst>
                              <p:par>
                                <p:cTn id="8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64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73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8200"/>
                            </p:stCondLst>
                            <p:childTnLst>
                              <p:par>
                                <p:cTn id="8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8520"/>
                            </p:stCondLst>
                            <p:childTnLst>
                              <p:par>
                                <p:cTn id="8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8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36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52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68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132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92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48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USO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l estilo indirecto (REPORTED SPEECH) lo utilizamos para contar lo que una persona ha dicho pero sin citar exactamente sus palabra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DIRECT STYLE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00"/>
                </a:solidFill>
                <a:latin typeface="Arial"/>
              </a:rPr>
              <a:t>Tom said: “We are going to the cinema this afternoon.”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REPORTED SPEECH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00"/>
                </a:solidFill>
                <a:latin typeface="Arial"/>
              </a:rPr>
              <a:t>Tom said that they were going to the cinema that afternoon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45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195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2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67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7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A REALIZAR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Cuando pasamos una oración de estilo directo a indirecto tenemos que tener en cuenta una serie de cambios que tendremos que realizar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iempos verbal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Expresiones temporales y de luga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66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nombre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, (utilizando la lógica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DIRECT: Tom said: “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We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are going to visit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Ann </a:t>
            </a:r>
            <a:r>
              <a:rPr b="0" i="1" lang="es-ES" sz="2400" spc="-1" strike="noStrike">
                <a:solidFill>
                  <a:srgbClr val="3333cc"/>
                </a:solidFill>
                <a:latin typeface="Arial"/>
              </a:rPr>
              <a:t>tomorrow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REPORTED: Tom said that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cc33"/>
                </a:solidFill>
                <a:latin typeface="Arial"/>
              </a:rPr>
              <a:t>were going to visit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 Ann </a:t>
            </a:r>
            <a:r>
              <a:rPr b="0" i="1" lang="es-ES" sz="2400" spc="-1" strike="noStrike">
                <a:solidFill>
                  <a:srgbClr val="3333cc"/>
                </a:solidFill>
                <a:latin typeface="Arial"/>
              </a:rPr>
              <a:t>the following da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75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475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25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25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25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375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EN LOS TIEMPOS VERBALE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3300"/>
                </a:solidFill>
                <a:uFillTx/>
                <a:latin typeface="Arial"/>
              </a:rPr>
              <a:t>DIRECT SPEECH---------------------------- REPORTED SPEEC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PRESENT-------------------------------------------------------------PA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y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ie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are studying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ere study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PAST-----------------------------------------------------PAST PERFECT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studied 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had studie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ere studying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had been study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FUTURE---------------------------------------------------CONDITIONA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We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ill study</a:t>
            </a:r>
            <a:r>
              <a:rPr b="0" i="1" lang="es-ES" sz="2000" spc="-1" strike="noStrike">
                <a:solidFill>
                  <a:srgbClr val="003300"/>
                </a:solidFill>
                <a:latin typeface="Arial"/>
              </a:rPr>
              <a:t>                                               She said that they </a:t>
            </a:r>
            <a:r>
              <a:rPr b="1" i="1" lang="es-ES" sz="2000" spc="-1" strike="noStrike" u="sng">
                <a:solidFill>
                  <a:srgbClr val="003300"/>
                </a:solidFill>
                <a:uFillTx/>
                <a:latin typeface="Arial"/>
              </a:rPr>
              <a:t>would stud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35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6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31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335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6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35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6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785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IEMPOS VERBAL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41320"/>
          <a:ext cx="8991720" cy="6016680"/>
        </p:xfrm>
        <a:graphic>
          <a:graphicData uri="http://schemas.openxmlformats.org/drawingml/2006/table">
            <a:tbl>
              <a:tblPr/>
              <a:tblGrid>
                <a:gridCol w="2054160"/>
                <a:gridCol w="2844720"/>
                <a:gridCol w="409284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NS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ate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a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we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PERFEC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ve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ESENT PERFEC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ve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ate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were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PERFECT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eaten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AST PERFECT CONTINUOU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had been eating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had been eating 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UTURE SI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e will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e said that they would eat healthy foo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AMBIOS EN LOS MODAL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3733920"/>
                <a:gridCol w="449568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3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32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AN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ULD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AY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GHT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UST / HAVE TO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UST /  HAD TO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WOULD</a:t>
                      </a:r>
                      <a:endParaRPr b="0" lang="en-US" sz="2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AMBIOS EXPRESIONES TEMPORALES Y DE LUGAR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74660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IRECT SPEECH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EPORTED SPEECH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n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night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night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ester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day / the day before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ast week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week / the week befo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 __________ ago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previous ______ / the _____ befo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morrow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following day / the day after / the next da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ext ___________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 following ________ / the _______ after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r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i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s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os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"/>
              </a:rPr>
              <a:t>Reported statement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Al hacer una frase en afirmativa o negativa, se han de tener en cuenta los cambios antes mencionados y hacerlo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Podemos utilizar la palabra “that” para introducir la frase en estilo indirecto. </a:t>
            </a:r>
            <a:r>
              <a:rPr b="1" i="1" lang="en-GB" sz="3200" spc="-1" strike="noStrike">
                <a:solidFill>
                  <a:srgbClr val="003300"/>
                </a:solidFill>
                <a:latin typeface="Arial"/>
              </a:rPr>
              <a:t>'That'</a:t>
            </a: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 se puede omitir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00"/>
                </a:solidFill>
                <a:latin typeface="Arial"/>
              </a:rPr>
              <a:t>She told him that she was happ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00"/>
                </a:solidFill>
                <a:latin typeface="Arial"/>
              </a:rPr>
              <a:t>She told him she was happ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"/>
              </a:rPr>
              <a:t>No usamos las comilla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62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87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45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12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Pondremos quien dijo la frase seguido de los verbos SAY o TELL en pasado. La diferencia entre ellos es que después de </a:t>
            </a:r>
            <a:r>
              <a:rPr b="1" i="1" lang="es-ES" sz="3200" spc="-1" strike="noStrike">
                <a:solidFill>
                  <a:srgbClr val="003300"/>
                </a:solidFill>
                <a:latin typeface="Arial"/>
              </a:rPr>
              <a:t>tell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tenemos que decir la persona a quien se lo dij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D.S.: Peter said, “Ann, I’m very ill.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00"/>
                </a:solidFill>
                <a:latin typeface="Arial"/>
              </a:rPr>
              <a:t>R.S.: Peter told Ann that he was very ill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325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ESALFARO6</cp:lastModifiedBy>
  <dcterms:modified xsi:type="dcterms:W3CDTF">2008-02-26T11:26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